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91F-9365-40B2-9F32-8B21C45B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828-9961-402F-91FC-D55514A5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398-67F9-47CC-9CBF-B5F2FB9A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45D-4416-48D6-951E-4FB65C79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23A-EDD5-4AD8-A894-A1CF03EC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BBB-D788-4175-BE74-EABF69B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CFD-CE41-4EF3-8272-97ACB2BA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005-5103-4347-A7BB-7BBD9F34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454-34E9-486C-A08C-8BB727D3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DE2-BA8C-4BAB-9910-A47ACAB5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144-2DB8-4DA2-82D0-4A6F4E55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1E8-F47B-4F49-8252-A4FBA6C0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C74D-88AF-414D-BE1D-59C014F0041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NALYZING NEWCOMER LABOUR MARKET OUTCOMES BY OCCUP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m Ziz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ronto Workforce Innovation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pril 14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Newcomer occupations by skill/sector categories and by educational attainment, Toronto, 1996-2001 and 2000-200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hart 2" descr=""/>
          <p:cNvPicPr/>
          <p:nvPr/>
        </p:nvPicPr>
        <p:blipFill>
          <a:blip r:embed="rId1"/>
          <a:stretch/>
        </p:blipFill>
        <p:spPr>
          <a:xfrm>
            <a:off x="-6480" y="1670040"/>
            <a:ext cx="4737240" cy="4280040"/>
          </a:xfrm>
          <a:prstGeom prst="rect">
            <a:avLst/>
          </a:prstGeom>
          <a:ln w="0">
            <a:noFill/>
          </a:ln>
        </p:spPr>
      </p:pic>
      <p:pic>
        <p:nvPicPr>
          <p:cNvPr id="71" name="Chart 3" descr=""/>
          <p:cNvPicPr/>
          <p:nvPr/>
        </p:nvPicPr>
        <p:blipFill>
          <a:blip r:embed="rId2"/>
          <a:stretch/>
        </p:blipFill>
        <p:spPr>
          <a:xfrm>
            <a:off x="4950000" y="1749600"/>
            <a:ext cx="4065480" cy="4047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76212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kill/sector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5410080" y="1219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ducational at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604800"/>
            <a:ext cx="914400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mployed Computer &amp; IT Professionals, Toronto, 2001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hart 2" descr=""/>
          <p:cNvPicPr/>
          <p:nvPr/>
        </p:nvPicPr>
        <p:blipFill>
          <a:blip r:embed="rId1"/>
          <a:stretch/>
        </p:blipFill>
        <p:spPr>
          <a:xfrm>
            <a:off x="1736640" y="1504800"/>
            <a:ext cx="5670720" cy="4213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304812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TOTAL: 43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4864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TOTAL: 435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6976" t="10571" r="31396" b="16698"/>
          <a:stretch/>
        </p:blipFill>
        <p:spPr>
          <a:xfrm>
            <a:off x="304920" y="228600"/>
            <a:ext cx="4419360" cy="403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1" name="TextBox 4"/>
          <p:cNvSpPr/>
          <p:nvPr/>
        </p:nvSpPr>
        <p:spPr>
          <a:xfrm rot="4284000">
            <a:off x="1108440" y="2881080"/>
            <a:ext cx="67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 rot="4320600">
            <a:off x="2968920" y="196128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toria Park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 rot="5400000">
            <a:off x="2038320" y="127836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wes 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7"/>
          <p:cNvSpPr/>
          <p:nvPr/>
        </p:nvSpPr>
        <p:spPr>
          <a:xfrm flipV="1">
            <a:off x="1600200" y="3123720"/>
            <a:ext cx="2209680" cy="762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 rot="20468400">
            <a:off x="2295000" y="3230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for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escent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876920" y="762120"/>
          <a:ext cx="4114800" cy="2954160"/>
        </p:xfrm>
        <a:graphic>
          <a:graphicData uri="http://schemas.openxmlformats.org/drawingml/2006/table">
            <a:tbl>
              <a:tblPr/>
              <a:tblGrid>
                <a:gridCol w="1752480"/>
                <a:gridCol w="762120"/>
                <a:gridCol w="761760"/>
                <a:gridCol w="838440"/>
              </a:tblGrid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l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mal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 Wo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ing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876920" y="3903840"/>
          <a:ext cx="2514600" cy="2954160"/>
        </p:xfrm>
        <a:graphic>
          <a:graphicData uri="http://schemas.openxmlformats.org/drawingml/2006/table">
            <a:tbl>
              <a:tblPr/>
              <a:tblGrid>
                <a:gridCol w="1752480"/>
                <a:gridCol w="762120"/>
              </a:tblGrid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 Wo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ing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89" name="TextBox 14"/>
          <p:cNvSpPr/>
          <p:nvPr/>
        </p:nvSpPr>
        <p:spPr>
          <a:xfrm>
            <a:off x="4876920" y="228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scent T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733920" y="5105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r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visible minorities, Toronto CMA, 2006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1143000"/>
          <a:ext cx="6172200" cy="2438280"/>
        </p:xfrm>
        <a:graphic>
          <a:graphicData uri="http://schemas.openxmlformats.org/drawingml/2006/table">
            <a:tbl>
              <a:tblPr/>
              <a:tblGrid>
                <a:gridCol w="1123920"/>
                <a:gridCol w="505080"/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udi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okkeep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rchasing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ventory cle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profession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4038480"/>
          <a:ext cx="6172200" cy="2362320"/>
        </p:xfrm>
        <a:graphic>
          <a:graphicData uri="http://schemas.openxmlformats.org/drawingml/2006/table">
            <a:tbl>
              <a:tblPr/>
              <a:tblGrid>
                <a:gridCol w="1123920"/>
                <a:gridCol w="505080"/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8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 ai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o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urity gu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siting homemak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visible minorities, Toronto CMA, 2006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1219320"/>
          <a:ext cx="5486400" cy="2361960"/>
        </p:xfrm>
        <a:graphic>
          <a:graphicData uri="http://schemas.openxmlformats.org/drawingml/2006/table">
            <a:tbl>
              <a:tblPr/>
              <a:tblGrid>
                <a:gridCol w="1193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</a:tblGrid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ght duty clea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xi and limo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al handl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4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3809880"/>
          <a:ext cx="6553080" cy="2514600"/>
        </p:xfrm>
        <a:graphic>
          <a:graphicData uri="http://schemas.openxmlformats.org/drawingml/2006/table">
            <a:tbl>
              <a:tblPr/>
              <a:tblGrid>
                <a:gridCol w="1191960"/>
                <a:gridCol w="536760"/>
                <a:gridCol w="536400"/>
                <a:gridCol w="534960"/>
                <a:gridCol w="536760"/>
                <a:gridCol w="536400"/>
                <a:gridCol w="534960"/>
                <a:gridCol w="536760"/>
                <a:gridCol w="536400"/>
                <a:gridCol w="535320"/>
                <a:gridCol w="536400"/>
              </a:tblGrid>
              <a:tr h="62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ervi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chine oper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embl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bour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post-secondary educ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egree from inside or outside Canada, Toronto CMA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1676520"/>
          <a:ext cx="6858000" cy="3809880"/>
        </p:xfrm>
        <a:graphic>
          <a:graphicData uri="http://schemas.openxmlformats.org/drawingml/2006/table">
            <a:tbl>
              <a:tblPr/>
              <a:tblGrid>
                <a:gridCol w="1360440"/>
                <a:gridCol w="549360"/>
                <a:gridCol w="550800"/>
                <a:gridCol w="549360"/>
                <a:gridCol w="549360"/>
                <a:gridCol w="550800"/>
                <a:gridCol w="549360"/>
                <a:gridCol w="549360"/>
                <a:gridCol w="549000"/>
                <a:gridCol w="551160"/>
                <a:gridCol w="549000"/>
              </a:tblGrid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udi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ght duty clea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xi and limo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factu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bour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postsecond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tsecondary inside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tsecondary outside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: Outside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me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hat jobs are available is a consequence of the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</a:rPr>
              <a:t>shap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of labour market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fferent population groups, like immigrants and newcomers, have different outcomes related to the shape of labour market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ose outcomes for newcomers are different outside the rest of Ontario compared to Toron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Visible minority groups are distributed differently across different occup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80880" y="380880"/>
            <a:ext cx="82296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ere are over 500 occupations listed in the National Occupational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 can group them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ccupation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Arial"/>
              </a:rPr>
              <a:t>(e.g. Sales &amp; Service, Manufacturing occup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kil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Arial"/>
              </a:rPr>
              <a:t>(e.g. require university degree or high school dipl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road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28800" y="4495680"/>
          <a:ext cx="5105520" cy="1752840"/>
        </p:xfrm>
        <a:graphic>
          <a:graphicData uri="http://schemas.openxmlformats.org/drawingml/2006/table">
            <a:tbl>
              <a:tblPr/>
              <a:tblGrid>
                <a:gridCol w="2517840"/>
                <a:gridCol w="2587680"/>
              </a:tblGrid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ing, fishing, forestry, m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OND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factu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RTI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990720" y="228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are of the Canadian workforce by class, 1901 to 2001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(Richard Florida + the Creative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424160" y="1447920"/>
            <a:ext cx="6033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9072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tor/skil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920" y="892080"/>
            <a:ext cx="80010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4" descr=""/>
          <p:cNvPicPr/>
          <p:nvPr/>
        </p:nvPicPr>
        <p:blipFill>
          <a:blip r:embed="rId1"/>
          <a:srcRect l="0" t="0" r="0" b="-30"/>
          <a:stretch/>
        </p:blipFill>
        <p:spPr>
          <a:xfrm>
            <a:off x="838080" y="1143000"/>
            <a:ext cx="7391520" cy="5562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990720" y="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tor/skill framework applied to Ontario, 199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990720" y="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parison of distribution of job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kill categories, Ontario, 199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76520" y="1197000"/>
            <a:ext cx="5943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parison of distribution of job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kill categories, Toronto and the rest of Ontario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47920" y="1019160"/>
            <a:ext cx="64767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90"/>
          <p:cNvSpPr/>
          <p:nvPr/>
        </p:nvSpPr>
        <p:spPr>
          <a:xfrm>
            <a:off x="7010280" y="5334120"/>
            <a:ext cx="866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RECE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1"/>
          <p:cNvSpPr/>
          <p:nvPr/>
        </p:nvSpPr>
        <p:spPr>
          <a:xfrm>
            <a:off x="1143000" y="1752480"/>
            <a:ext cx="11239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000s employ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2"/>
          <p:cNvSpPr/>
          <p:nvPr/>
        </p:nvSpPr>
        <p:spPr>
          <a:xfrm>
            <a:off x="4191120" y="5334120"/>
            <a:ext cx="11048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CDN $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STARTS RIS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hart 4" descr=""/>
          <p:cNvPicPr/>
          <p:nvPr/>
        </p:nvPicPr>
        <p:blipFill>
          <a:blip r:embed="rId1"/>
          <a:stretch/>
        </p:blipFill>
        <p:spPr>
          <a:xfrm>
            <a:off x="1182600" y="2054160"/>
            <a:ext cx="6778800" cy="313380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5"/>
          <p:cNvSpPr/>
          <p:nvPr/>
        </p:nvSpPr>
        <p:spPr>
          <a:xfrm flipV="1">
            <a:off x="472428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"/>
          <p:cNvSpPr/>
          <p:nvPr/>
        </p:nvSpPr>
        <p:spPr>
          <a:xfrm flipV="1">
            <a:off x="739152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mployment trends by broad sector and skill categor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ronto Census Metropolitan Area, 1997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8"/>
          <p:cNvCxnSpPr/>
          <p:nvPr/>
        </p:nvCxnSpPr>
        <p:spPr>
          <a:xfrm flipV="1">
            <a:off x="5181480" y="4266720"/>
            <a:ext cx="76680" cy="153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9"/>
          <p:cNvCxnSpPr/>
          <p:nvPr/>
        </p:nvCxnSpPr>
        <p:spPr>
          <a:xfrm flipV="1">
            <a:off x="7161840" y="4114080"/>
            <a:ext cx="766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Occupations by skill/sector categories, Canadian-born, immigrants and newcomers, Toronto and rest of Ontario, 200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art 2" descr=""/>
          <p:cNvPicPr/>
          <p:nvPr/>
        </p:nvPicPr>
        <p:blipFill>
          <a:blip r:embed="rId1"/>
          <a:stretch/>
        </p:blipFill>
        <p:spPr>
          <a:xfrm>
            <a:off x="1517760" y="987480"/>
            <a:ext cx="6072120" cy="2749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228600" y="4648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ST OF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52280" y="1828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OR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hart 5" descr=""/>
          <p:cNvPicPr/>
          <p:nvPr/>
        </p:nvPicPr>
        <p:blipFill>
          <a:blip r:embed="rId2"/>
          <a:stretch/>
        </p:blipFill>
        <p:spPr>
          <a:xfrm>
            <a:off x="1517760" y="4108320"/>
            <a:ext cx="6072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5:49:21Z</dcterms:created>
  <dc:creator>Tom Zizys</dc:creator>
  <dc:description/>
  <dc:language>en-US</dc:language>
  <cp:lastModifiedBy>sguerra</cp:lastModifiedBy>
  <dcterms:modified xsi:type="dcterms:W3CDTF">2010-04-16T12:24:23Z</dcterms:modified>
  <cp:revision>24</cp:revision>
  <dc:subject/>
  <dc:title>ANALYZING NEWCOMER LABOUR MARKET OUTCOMES BY OCCUPATIONS</dc:title>
</cp:coreProperties>
</file>